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770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77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008240" y="-360"/>
            <a:ext cx="30668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69720" y="681120"/>
            <a:ext cx="45370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1280"/>
            <a:ext cx="30672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008240" y="8621280"/>
            <a:ext cx="30668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A7A-EB74-46E0-A0A0-CACE729D2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DC62-24A4-49A7-8C63-CC053D79068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B408-B0CA-485F-8765-9B4CBCC0C75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898E-07BA-4900-92A8-59646817BA2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70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7760" y="4311720"/>
            <a:ext cx="5661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008600" y="8621640"/>
            <a:ext cx="306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264-6E0C-485B-B562-94B1CAF18A8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9320" y="6467400"/>
            <a:ext cx="909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49320" y="6467400"/>
            <a:ext cx="909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8"/>
          <p:cNvSpPr/>
          <p:nvPr/>
        </p:nvSpPr>
        <p:spPr>
          <a:xfrm>
            <a:off x="0" y="61848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55560" y="500040"/>
            <a:ext cx="7832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493360" y="558792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From: http://www.bing.com/images/search?q=ionic+conduction&amp;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=226A0DC7E058060B5894A07E35DD03A9C8C33804&amp;FORM=IQFR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paración de la Conducción Iónica en Sólidos y Líqu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878200" y="1949400"/>
            <a:ext cx="2984400" cy="3294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879720" y="199404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Só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9680" y="2957400"/>
            <a:ext cx="5000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están fijados en el retículo y no se pueden m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693880" y="4465800"/>
            <a:ext cx="5000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ahora se pueden mover y conducir electric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894040" y="3262320"/>
            <a:ext cx="2924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Fundido o en 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811600" y="477360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Iones +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al pol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363920" y="475632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Iones -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al polo pos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" descr="Description: http://ts2.mm.bing.net/th?id=I4701194574628445&amp;pid=1.7&amp;w=115&amp;h=150&amp;c=7&amp;rs=1"/>
          <p:cNvPicPr/>
          <p:nvPr/>
        </p:nvPicPr>
        <p:blipFill>
          <a:blip r:embed="rId1"/>
          <a:stretch/>
        </p:blipFill>
        <p:spPr>
          <a:xfrm>
            <a:off x="3149640" y="1820880"/>
            <a:ext cx="2550960" cy="333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985400" y="523872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From: http://www.bing.com/images/search?q=ionic+conduction&amp;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=226A0DC7E058060B5894A07E35DD03A9C8C33804&amp;FORM=IQFR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258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tores Iónicos Sólido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94000" y="2963880"/>
            <a:ext cx="4327200" cy="26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5146560" y="1344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68120" y="-163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5" descr="http://www.fos.su.se/~lars/moviegif/nbasemismall.gif"/>
          <p:cNvPicPr/>
          <p:nvPr/>
        </p:nvPicPr>
        <p:blipFill>
          <a:blip r:embed="rId2"/>
          <a:stretch/>
        </p:blipFill>
        <p:spPr>
          <a:xfrm>
            <a:off x="2847960" y="3429000"/>
            <a:ext cx="3448080" cy="2768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82440" y="5900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ng.com/images/search?q=pictures+of+Beta+Alumina&amp;view=detail&amp;id=4E87E2F83BB35BF71ED57D28BA646FE54BB2DA95&amp;first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589720" y="5113440"/>
            <a:ext cx="63504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3657600" y="1778040"/>
            <a:ext cx="612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022560" y="326088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-Alúmina sólida (con 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849840" y="1714680"/>
            <a:ext cx="1150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3348720" y="14968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ólidos conve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-4852080"/>
            <a:ext cx="9360000" cy="10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ciones Moleculares Dinámicas de la Beta-Alúmina de So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a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. Edvardsson et. al., J. Phys. C. 6,1319 (1994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5146560" y="1325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ba.wmv" descr=""/>
          <p:cNvPicPr/>
          <p:nvPr/>
        </p:nvPicPr>
        <p:blipFill>
          <a:blip r:embed="rId1"/>
          <a:stretch/>
        </p:blipFill>
        <p:spPr>
          <a:xfrm>
            <a:off x="2025720" y="789120"/>
            <a:ext cx="4603680" cy="3222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0" y="52862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fos.su.se/~lars/nb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06480" y="2090880"/>
            <a:ext cx="747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l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cualquier sustancia que tiene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ibles que hacen la sustancia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eléctricamente conduct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l electrolito más común es 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ción i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o sólidos fundidos y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electrolitos sólidos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exi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3333cc"/>
                </a:solidFill>
                <a:latin typeface="Arial"/>
              </a:rPr>
              <a:t>Un Conductor Iónico frecuentemente recibe el nombre de Electrol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ión Matemática para la Densidad de Corriente Iónica Debido a un Campo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2004840" y="2219400"/>
                <a:ext cx="47865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8" name="Straight Arrow Connector 5"/>
          <p:cNvCxnSpPr/>
          <p:nvPr/>
        </p:nvCxnSpPr>
        <p:spPr>
          <a:xfrm>
            <a:off x="1515600" y="1922400"/>
            <a:ext cx="60732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7"/>
          <p:cNvCxnSpPr/>
          <p:nvPr/>
        </p:nvCxnSpPr>
        <p:spPr>
          <a:xfrm>
            <a:off x="3073320" y="2041560"/>
            <a:ext cx="61200" cy="4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Straight Arrow Connector 11"/>
          <p:cNvCxnSpPr/>
          <p:nvPr/>
        </p:nvCxnSpPr>
        <p:spPr>
          <a:xfrm flipH="1">
            <a:off x="5170320" y="1549080"/>
            <a:ext cx="1038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Straight Arrow Connector 13"/>
          <p:cNvCxnSpPr/>
          <p:nvPr/>
        </p:nvCxnSpPr>
        <p:spPr>
          <a:xfrm flipV="1">
            <a:off x="2800440" y="2769480"/>
            <a:ext cx="73080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Straight Arrow Connector 15"/>
          <p:cNvCxnSpPr/>
          <p:nvPr/>
        </p:nvCxnSpPr>
        <p:spPr>
          <a:xfrm flipH="1" flipV="1">
            <a:off x="3882600" y="2836440"/>
            <a:ext cx="5119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Straight Arrow Connector 17"/>
          <p:cNvCxnSpPr/>
          <p:nvPr/>
        </p:nvCxnSpPr>
        <p:spPr>
          <a:xfrm flipV="1">
            <a:off x="4648320" y="2836440"/>
            <a:ext cx="76104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Content Placeholder 2"/>
          <p:cNvSpPr/>
          <p:nvPr/>
        </p:nvSpPr>
        <p:spPr>
          <a:xfrm>
            <a:off x="685800" y="4532400"/>
            <a:ext cx="777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Densidad de corriente 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ás útil que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corrient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rque no depende del tamañ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emplean los mismos conceptos de resistencia, resistividad y conductividad que usamos para la conducción por electrones y hue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Straight Arrow Connector 24"/>
          <p:cNvCxnSpPr/>
          <p:nvPr/>
        </p:nvCxnSpPr>
        <p:spPr>
          <a:xfrm flipH="1">
            <a:off x="4739400" y="2104920"/>
            <a:ext cx="13428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Rectangle 25"/>
          <p:cNvSpPr/>
          <p:nvPr/>
        </p:nvSpPr>
        <p:spPr>
          <a:xfrm>
            <a:off x="3863880" y="358776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Camp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2987640" y="134460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Número de iones del tipo 1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4394160" y="133344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Número de iones del tipo 2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103968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Densidad de Cor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1935000" y="358776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400" spc="-1" strike="noStrike">
                <a:solidFill>
                  <a:srgbClr val="8585e0"/>
                </a:solidFill>
                <a:latin typeface="Times New Roman"/>
              </a:rPr>
              <a:t>Mobilidad del Ión del tip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620856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</a:rPr>
              <a:t>Mobilidad del Ión del tip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upload.wikimedia.org/wikipedia/en/7/70/Electronic_ionic_conductivity_diagram.JPG"/>
          <p:cNvPicPr/>
          <p:nvPr/>
        </p:nvPicPr>
        <p:blipFill>
          <a:blip r:embed="rId1"/>
          <a:stretch/>
        </p:blipFill>
        <p:spPr>
          <a:xfrm>
            <a:off x="1279440" y="1620720"/>
            <a:ext cx="6334200" cy="5065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0" y="-7452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ción de los Conductores Iónicos de Estado Sólido y Electrónicos Mediante Diagrama Log de la Conductividad Electrónica vs. Log de la Conductividad I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4  y 6 – electrolitos sólidos conoc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3, y 5 – conductores conocidos de tipo ión-electrón mezc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0" y="6396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en.wikipedia.org/wiki/Fast_ion_cond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529000" y="6232680"/>
            <a:ext cx="303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ductividad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 rot="16200000">
            <a:off x="415800" y="3976200"/>
            <a:ext cx="24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ductividad i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le 1"/>
          <p:cNvSpPr/>
          <p:nvPr/>
        </p:nvSpPr>
        <p:spPr>
          <a:xfrm>
            <a:off x="0" y="66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unos ejemplos de Sólidos Inorgánicos Conductores de 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473040" y="1230480"/>
            <a:ext cx="77724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Dióxido de zirconio dopado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óxido de calcio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óxido de Itrio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. Conductivo por causa de los iones de oxígeno (O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). Se usa en los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sensores de oxígeno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Electrolito sólido de beta-alúmina</a:t>
            </a:r>
            <a:r>
              <a:rPr b="0" lang="es-PR" sz="1800" spc="-1" strike="noStrike">
                <a:solidFill>
                  <a:srgbClr val="8585e0"/>
                </a:solidFill>
                <a:latin typeface="Arial"/>
              </a:rPr>
              <a:t>.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Usado como membrana en diferentes tipos de celdas electroquímicas de sal fun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Fluoruro de lantano (III).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Conductivo por causa de los iones de flúor (F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). Se emplea en algunas membranas de electrodos selectivos a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Sulfuro de plata.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Conductivo por causa de los iones Ag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.Se emplea en algunas membranas de electrodos selectivos a 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Algunas cerámicas** de estructura tipo </a:t>
            </a:r>
            <a:r>
              <a:rPr b="1" lang="es-PR" sz="1800" spc="-1" strike="noStrike">
                <a:solidFill>
                  <a:srgbClr val="8585e0"/>
                </a:solidFill>
                <a:latin typeface="Arial"/>
              </a:rPr>
              <a:t>perovskita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* - titanato de estroncio, estanato de estroncio. Conductivo por causa de los iones O</a:t>
            </a:r>
            <a:r>
              <a:rPr b="0" lang="es-PR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9040" y="5754600"/>
            <a:ext cx="776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*Perovskita: trióxido de titanio y de calcio (CaTiO</a:t>
            </a:r>
            <a:r>
              <a:rPr b="0" lang="es-PR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), o cristales que comparten con este su estructura cristal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**Cerámica: sólido no metálico e inorgánico, preparado por acción de calor y subsecuente enfri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81080" y="5183280"/>
            <a:ext cx="69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http://en.wikipedia.org/wiki/Fast_ion_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58680" y="0"/>
            <a:ext cx="908532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ejemplos de orgánicos sólidos conductores de 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Geles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oliacrilamidas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5e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 polímero sostiene una solución iónica del electrol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Sal disuelta en un polímero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5e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ejemplo,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erclorato de lít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olietilenglicol (óxido de polietil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Polielectrolit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or ejemplo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Naf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 conductor de </a:t>
            </a:r>
            <a:r>
              <a:rPr b="1" lang="en-US" sz="2400" spc="-1" strike="noStrike" u="sng">
                <a:solidFill>
                  <a:srgbClr val="8585e0"/>
                </a:solidFill>
                <a:uFillTx/>
                <a:latin typeface="Arial"/>
              </a:rPr>
              <a:t>H</a:t>
            </a:r>
            <a:r>
              <a:rPr b="1" lang="en-US" sz="2400" spc="-1" strike="noStrike" u="sng" baseline="30000">
                <a:solidFill>
                  <a:srgbClr val="8585e0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e usa en celdas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Polielectroli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ímeros cuyo monómero alberga un electrolito. Estos grupos se pueden disociar cuando en solución (por ejemplo, acuosa), tornando el polímero cargado. Un ejempo es el D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ast_ion_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800" y="24397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sma: un ejemplo de un material que presenta conducciones electrónica e i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0" y="6562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Lightning_over_Oradea_Romania_3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3490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relámpago en la atmósfera es un ejemplo de plasma. Un rayo descarga típicamente 30,000 amperios hasta a 100 millones de voltios, y emite luz, ondas de radio, rayos X y hasta rayos gama. Las temperaturas alcanzadas en el plasma del rayo pueden llegar a ~28,000 kelvin y las densidades electrónicas pueden pasar de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es e iones por metro cúb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48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ón General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533520" y="371808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erencia 8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ndo los Materiales según sus Propiedades Físicas: Propiedades Eléctricas, Parte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1349280" y="1847880"/>
            <a:ext cx="6977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i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studio y aplicación del fenómeno, propiedades, efetos y mecanismos de los procesos asociados con el transporte rápido de iones (TRI) en todos los sistemas sól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-esc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efectos de transporte de iones que pueden ocurrir a nano-escala se usan como base para el desarrollo de nanomateriales para baterías portátiles de lítio y celdas de combust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0" y="252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Tiene la Escala en Tamaño Algún Efecto en la Conducción Ión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www.oxford-instruments.com/products/etching-deposition-growth/processes-techniques/plasma-etch/rie/PublishingImages/RIE.png"/>
          <p:cNvPicPr/>
          <p:nvPr/>
        </p:nvPicPr>
        <p:blipFill>
          <a:blip r:embed="rId1"/>
          <a:stretch/>
        </p:blipFill>
        <p:spPr>
          <a:xfrm>
            <a:off x="1414440" y="492120"/>
            <a:ext cx="6026040" cy="5616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277920" y="6097680"/>
            <a:ext cx="828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bing.com/images/search?q=pictures+of+plasma+etching+tools&amp;id=C494C8908B805E2E63647B3930A210CA05784235&amp;FORM=IQF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-177840" y="1089000"/>
            <a:ext cx="880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290600" y="492120"/>
            <a:ext cx="62625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-6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el Procesamiento de Mater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Sistemas Bi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http://www.northland.cc.mn.us/biology/AP2Online/Nervous/images/saltatory_conduction.gif"/>
          <p:cNvPicPr/>
          <p:nvPr/>
        </p:nvPicPr>
        <p:blipFill>
          <a:blip r:embed="rId1"/>
          <a:stretch/>
        </p:blipFill>
        <p:spPr>
          <a:xfrm>
            <a:off x="3116160" y="1940040"/>
            <a:ext cx="2590920" cy="1869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790560" y="4138560"/>
            <a:ext cx="7629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orthland.cc.mn.us/biology/AP2Online/Nervous/nerve9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0" y="2412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la Electrónica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http://materials.mines.edu/rc/aeml/Ionic%20transistor.jpg"/>
          <p:cNvPicPr/>
          <p:nvPr/>
        </p:nvPicPr>
        <p:blipFill>
          <a:blip r:embed="rId1"/>
          <a:stretch/>
        </p:blipFill>
        <p:spPr>
          <a:xfrm>
            <a:off x="1638360" y="2057400"/>
            <a:ext cx="586728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884160" y="4724280"/>
            <a:ext cx="786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ágina Web de la Investigacíón de Ryan O'Hayre, CSM. - Advanced Energy Materials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ágina para acceder a la imagen: http://materials.mines.edu/rc/aeml/Ionic%20transistor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ducción Iónica en el Almacenaje de Ener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http://upload.wikimedia.org/wikipedia/commons/e/ee/Photo-CarBattery.jpg"/>
          <p:cNvPicPr/>
          <p:nvPr/>
        </p:nvPicPr>
        <p:blipFill>
          <a:blip r:embed="rId1"/>
          <a:stretch/>
        </p:blipFill>
        <p:spPr>
          <a:xfrm>
            <a:off x="660240" y="2525760"/>
            <a:ext cx="2630520" cy="2512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File:Discharged.gif"/>
          <p:cNvPicPr/>
          <p:nvPr/>
        </p:nvPicPr>
        <p:blipFill>
          <a:blip r:embed="rId2"/>
          <a:stretch/>
        </p:blipFill>
        <p:spPr>
          <a:xfrm>
            <a:off x="3968640" y="1468440"/>
            <a:ext cx="3915000" cy="211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File:Recharged.gif"/>
          <p:cNvPicPr/>
          <p:nvPr/>
        </p:nvPicPr>
        <p:blipFill>
          <a:blip r:embed="rId3"/>
          <a:stretch/>
        </p:blipFill>
        <p:spPr>
          <a:xfrm>
            <a:off x="4083120" y="4000680"/>
            <a:ext cx="3914640" cy="21621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2770200" y="6162840"/>
            <a:ext cx="63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Recharged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493360" y="558792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From: http://www.bing.com/images/search?q=ionic+conduction&amp;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=226A0DC7E058060B5894A07E35DD03A9C8C33804&amp;FORM=IQFR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878200" y="1949400"/>
            <a:ext cx="2984400" cy="3294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879720" y="199404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Só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749680" y="2957400"/>
            <a:ext cx="5000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están fijados en el retículo y no se pueden m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693880" y="4465800"/>
            <a:ext cx="5000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</a:rPr>
              <a:t>Los iones ahora se pueden mover y conducir electric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894040" y="3262320"/>
            <a:ext cx="2924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Fundido o en 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811600" y="477360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Iones +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ff0000"/>
                </a:solidFill>
                <a:latin typeface="Arial"/>
              </a:rPr>
              <a:t>al pol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363920" y="4756320"/>
            <a:ext cx="1484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Iones - se mue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ff"/>
                </a:solidFill>
                <a:latin typeface="Arial"/>
              </a:rPr>
              <a:t>al polo pos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99"/>
                </a:solidFill>
                <a:latin typeface="Arial"/>
              </a:rPr>
              <a:t>Información general de Conducción Iónica en Materiales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28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Unidades Básicas para Hacer Materiales—Át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omos, Molécula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po de enlace quí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rgánico e Inorg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quí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3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900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¿Qué significa “propiedades física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lasificando según las propiedades físicas: Propiedades eléctrica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Propiedades de Conducción de Corriente Eléct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onducción iónica (catiónica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anió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0" y="144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36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09600" y="1557360"/>
            <a:ext cx="84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17440" y="1027080"/>
            <a:ext cx="848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opiedades físicas son las que se pueden observar sin que la sustancia cambie químic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física es cualquier propiedad del material que describa una interacción con otros materiales o el ambiente que no sea quí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del material puede ser constante o una función de variables tales como temperatura, presión o frecuencia de ex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8120" y="275544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Propidades Eléctricas de los materiales incluyen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ducción de Corriente Eléctrica </a:t>
            </a:r>
            <a:br>
              <a:rPr sz="3600"/>
            </a:b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 Conducción por Electrón y Huec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*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ducción iónica (catiónica y aniónica)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olarización (propiedades Dieléct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333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erde: Conducción de Corriente Eléctrica (transporte debido a un campo eléctrico) en un material proviene de:</a:t>
            </a: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)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por electrón y hueco y/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)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(catiónica y anión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1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ucción de Corriente Eléctrica: Propiedades de Conducción I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30157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ucción Iónica en Material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Conducción Iónica en sólid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Conducción Iónica en líquid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nducción Iónica en gases (plasmas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5:59:11Z</dcterms:created>
  <dc:creator>jgm145</dc:creator>
  <dc:description/>
  <dc:language>en-US</dc:language>
  <cp:lastModifiedBy>Janet Pinhorn</cp:lastModifiedBy>
  <cp:lastPrinted>2012-08-21T10:57:31Z</cp:lastPrinted>
  <dcterms:modified xsi:type="dcterms:W3CDTF">2014-10-21T22:11:23Z</dcterms:modified>
  <cp:revision>482</cp:revision>
  <dc:subject/>
  <dc:title>Nanofabrication Manufacturing Technology Program</dc:title>
</cp:coreProperties>
</file>